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416-B7D0-4DC7-ACB8-8845E921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89C-9620-4D57-ACD2-BE3F2B2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BDB-8036-4EA4-B5C8-1C1A4C53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F44-E8F9-4533-B5D9-B30FF322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D7C-93E7-44BC-9B55-B4635D88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1A8-ADD8-4255-8667-097FB43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FFC-2A6F-4EE8-97C9-BA2E6D5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BAE-DCF4-4BE6-B821-41F5BCB0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4EA-0F04-41F2-A3F8-8977B58D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60A-99AD-4C69-8607-DC67130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DD7-8E09-4FD8-A07E-7BF0B7CE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81E-D9EE-457C-837D-9048B48C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57A-30A9-4F7B-8600-7E194AA99A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5373720"/>
            <a:ext cx="3889440" cy="719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aunt and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un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720" y="5445000"/>
            <a:ext cx="8137440" cy="1006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y have two children . The boy's name is M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girl's name is 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8720" y="5518080"/>
            <a:ext cx="7056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aunt and uncle like to go for a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835164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cousins like to jump-on-uncle. They have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2360" y="5373720"/>
            <a:ext cx="85694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family likes to have fun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like to have dinner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8720" y="5518080"/>
            <a:ext cx="741672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like to watch a film. We are a big, happy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addy's mother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Maddy's father works in a par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Maddy's brother likes to sit and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Maddy's cousins like to play with their                                      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33280"/>
            <a:ext cx="44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ad and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17733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2349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8720" y="292572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720" y="35020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9080" y="1844640"/>
            <a:ext cx="4464000" cy="1800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llo aga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445000"/>
            <a:ext cx="71294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have a brother and a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18920" y="32385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☺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581360"/>
            <a:ext cx="1800360" cy="201636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830880 h 2016360"/>
              <a:gd name="textAreaBottom" fmla="*/ 1185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5445000"/>
            <a:ext cx="684072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father works , to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1:58:58Z</dcterms:created>
  <dc:creator/>
  <dc:description/>
  <dc:language>en-US</dc:language>
  <cp:lastModifiedBy>China</cp:lastModifiedBy>
  <dcterms:modified xsi:type="dcterms:W3CDTF">2018-08-17T04:19:1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